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A5BD-7F01-4BE9-BA77-0CAD8291D5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Kill a Mockingbir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ill a Mockingb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Harper 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rthur “Boo” Radle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hur “Boo” Rad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reputation of being a lun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ally a harmless, well-meaning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childlike in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ving for love and af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s Jem and Scout from certa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 Robins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young, harmless, innocent, hardworking black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rippled left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be falsely accused of raping a white girl, Mayella E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ose friend of Jem and Sc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lives in Maycomb only during the summer (stays with a rel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s “big stori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deprived of love and af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wo Poor White Families: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unninghams                  The Ewel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or White Famili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nninghams                  The Ew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whit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e on very li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pay back their debts – even if it is with hickory nuts, turnips, or ho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white tr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-for-n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one a day’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l-mout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ack Commun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ck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fe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never take anything with paying i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stronger character than most of the wh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duc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iminated agai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ed about ba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ve better than what is dished out to them by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cus uses formal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wells use foul words and obsce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m, Scout, and Dill will use slang words, typical of their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n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ous  (at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per Le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per 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26 in Monroeville, Alabama (the fictional “Maycomb, Alabama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father “Amasa” was a lawyer whom she deeply adm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mother’s maiden name was “Finc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own childhood mirrors that of the character “Sc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0 she published her only novel – “To Kill a Mockingbi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eceived the Pulitzer Prize for Literature in 19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1960, “To Kill a Mockingbird” has never been out of 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ge 81, she is alive and resides in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rarely makes public appearances or gives inter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ens are tried for a second time, and are again found gui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reme Court reverses the convictions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, four of the defendants are freed; the other five serve prison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cottsboro defendant was paroled in 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virtually impossible for a black to receive a fair t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 capita income for families in Alabama (and Oklahoma) is $125 - $250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outhern blacks pick cotton for a 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klin D. Roosevelt is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tt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comb, Alabama (fictional c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3-19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ler is Chancellor of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ens’ biggest competitor in the long jump was a German named Luz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racial tensions, the two became good friend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e Owens won the gold medal and Long won the sil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gal Segregation in Alabama, 1923-194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l Segregation in Alabama, 1923-1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hite female nurses in hospitals that treat black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passenger cars for whites and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waiting rooms for whites and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white and black convi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interracial marri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regated water fount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regated thea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phine: A Southern Lady’s Dru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930s Typical Morphine Addict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ite fema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ddle-aged or old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dow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bou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ves in the sou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perty own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egan using morphine for medical reasons (pain relief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ine: A Southern Lady’s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s Typical Morphine Addi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-aged or 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b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 ow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using morphine for medical reasons (pain relie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PowerPoint was created by Mrs. Ward especially for the 4th Hour English I students at Warner High Schoo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hope you enjoy the book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created by Mrs. Ward especially for the 4th Hour English I students at Warner High Schoo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ope you enjoy the bo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al Preju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nobb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ed for 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ed for Con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ymbolis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:  Symbolizes Everything That is Good and Harmless in This Worl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:  Symbolizes Everything That is Good and Harmless in This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 image or symbol appears four times in the no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an Louis Finch – “Scout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n Louis Finch – “Sc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’s nar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 is six when the story beg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aturally curious about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’s Character Trai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’s Character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ul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&amp; Frie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s in Maturity throughout the No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ticus Fin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cus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Scout and J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d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torney by prof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iti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lls good values and moral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children call him “Attic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southern gentle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-spo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m Fin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m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’s older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up to his father Att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looks out for Sc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older brother at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ures as the story prog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lpurni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pu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ch’s black housekee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watched the children since their mother’s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a positive influence on the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4A3A-CB69-480C-811D-1C3584E3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383E-DFAD-4ACD-A5E3-8DCA9FAD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45F-E44F-42EC-80B5-E5679C1F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2DC-5C4B-4EFD-BDA6-440F8041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1A07-483C-4E95-87DD-5E5AF14C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2527-ACEF-4EEB-93B2-BA7ECDD4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1E33-C909-4EE9-AE71-72847568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347E-6178-4E3C-B0CD-E4B8FDA7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24A5-8CAE-429F-B82B-593060C5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9195-D01F-4283-85FB-35C217B8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96F1-B561-479C-BAF4-C5ECC642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BE2-8EE8-4344-8670-E95D7B5F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E8C1-C795-4987-BD6B-238CC64E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3C13-7299-41B7-B6E4-CAF0BBE7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DA88-B3BC-4EFC-8EDF-69774F2A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8B68-A0F5-46BA-B591-05B4D012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9788-3AD7-4849-AAC5-DAD779A0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7AD1-9C8C-4271-A43D-E70A01CD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524-A5B3-4500-82C0-4AA9E1C3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8AD-EF6E-49B0-A52B-66486AEA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5D6A-81D4-42EA-A18D-D0D10FB8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5EA-B371-4CC9-869B-22E78324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C4D4-1B3D-4142-964E-7ED9B41F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3EED-AEA6-4E79-A7C9-B2EB6DA1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801A-B93D-4CBB-ACFD-C65455C25B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574E-E6FB-49DE-AE74-79C478695D6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teachpol.tcnj.edu/amer_pol_hist/thumbnail453.html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00600" y="1523520"/>
            <a:ext cx="388152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o Kill a Mockingbir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410080" y="388620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6" descr="mockingbird"/>
          <p:cNvPicPr/>
          <p:nvPr/>
        </p:nvPicPr>
        <p:blipFill>
          <a:blip r:embed="rId1"/>
          <a:stretch/>
        </p:blipFill>
        <p:spPr>
          <a:xfrm>
            <a:off x="762120" y="167652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76360" y="7617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hur “Boo” Radl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2361960"/>
            <a:ext cx="8226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200px-Killmockingbird217"/>
          <p:cNvPicPr/>
          <p:nvPr/>
        </p:nvPicPr>
        <p:blipFill>
          <a:blip r:embed="rId1"/>
          <a:stretch/>
        </p:blipFill>
        <p:spPr>
          <a:xfrm>
            <a:off x="762120" y="135000"/>
            <a:ext cx="23619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m Robi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19720" y="1598400"/>
            <a:ext cx="4262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Picture 5" descr="Copy_of_Mockingbird2"/>
          <p:cNvPicPr/>
          <p:nvPr/>
        </p:nvPicPr>
        <p:blipFill>
          <a:blip r:embed="rId1"/>
          <a:srcRect l="51562" t="0" r="0" b="0"/>
          <a:stretch/>
        </p:blipFill>
        <p:spPr>
          <a:xfrm>
            <a:off x="914400" y="1981080"/>
            <a:ext cx="29145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497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Picture 5" descr="growing7"/>
          <p:cNvPicPr/>
          <p:nvPr/>
        </p:nvPicPr>
        <p:blipFill>
          <a:blip r:embed="rId1"/>
          <a:stretch/>
        </p:blipFill>
        <p:spPr>
          <a:xfrm>
            <a:off x="5257800" y="1905120"/>
            <a:ext cx="3200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wo Poor White Families: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Cunninghams                  The Ewell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lack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219320"/>
            <a:ext cx="822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3201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rper L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802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7" descr="harper_lee"/>
          <p:cNvPicPr/>
          <p:nvPr/>
        </p:nvPicPr>
        <p:blipFill>
          <a:blip r:embed="rId1">
            <a:lum bright="12000"/>
          </a:blip>
          <a:srcRect l="48488" t="16668" r="0" b="0"/>
          <a:stretch/>
        </p:blipFill>
        <p:spPr>
          <a:xfrm>
            <a:off x="6172200" y="380880"/>
            <a:ext cx="1700280" cy="3200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Harper Lee receives an honorary degree from the University of Notre Dame, Indiana, US"/>
          <p:cNvPicPr/>
          <p:nvPr/>
        </p:nvPicPr>
        <p:blipFill>
          <a:blip r:embed="rId2"/>
          <a:stretch/>
        </p:blipFill>
        <p:spPr>
          <a:xfrm>
            <a:off x="5486400" y="3886200"/>
            <a:ext cx="33814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219320"/>
            <a:ext cx="4037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7" descr="SCOTTS"/>
          <p:cNvPicPr/>
          <p:nvPr/>
        </p:nvPicPr>
        <p:blipFill>
          <a:blip r:embed="rId1"/>
          <a:stretch/>
        </p:blipFill>
        <p:spPr>
          <a:xfrm>
            <a:off x="4572000" y="1828800"/>
            <a:ext cx="4191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4" descr="FDR%20fireside%20chat%20March%201933"/>
          <p:cNvPicPr/>
          <p:nvPr/>
        </p:nvPicPr>
        <p:blipFill>
          <a:blip r:embed="rId1"/>
          <a:stretch/>
        </p:blipFill>
        <p:spPr>
          <a:xfrm>
            <a:off x="5562720" y="4038480"/>
            <a:ext cx="3122640" cy="2395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6720" cy="609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5" descr="acoffee"/>
          <p:cNvPicPr/>
          <p:nvPr/>
        </p:nvPicPr>
        <p:blipFill>
          <a:blip r:embed="rId2"/>
          <a:srcRect l="0" t="0" r="0" b="17713"/>
          <a:stretch/>
        </p:blipFill>
        <p:spPr>
          <a:xfrm>
            <a:off x="5334120" y="1600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DLange"/>
          <p:cNvPicPr/>
          <p:nvPr/>
        </p:nvPicPr>
        <p:blipFill>
          <a:blip r:embed="rId3"/>
          <a:srcRect l="10978" t="13287" r="20497" b="13772"/>
          <a:stretch/>
        </p:blipFill>
        <p:spPr>
          <a:xfrm>
            <a:off x="3657600" y="4191120"/>
            <a:ext cx="1558800" cy="2057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7" descr="oldcotton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09480" y="44197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8" descr="Old Monroe County Courthouse"/>
          <p:cNvPicPr/>
          <p:nvPr/>
        </p:nvPicPr>
        <p:blipFill>
          <a:blip r:embed="rId1"/>
          <a:stretch/>
        </p:blipFill>
        <p:spPr>
          <a:xfrm>
            <a:off x="4419720" y="2368440"/>
            <a:ext cx="4267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066680"/>
            <a:ext cx="5182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0" name="Picture 7" descr="owen3"/>
          <p:cNvPicPr/>
          <p:nvPr/>
        </p:nvPicPr>
        <p:blipFill>
          <a:blip r:embed="rId1"/>
          <a:stretch/>
        </p:blipFill>
        <p:spPr>
          <a:xfrm>
            <a:off x="5943600" y="4419720"/>
            <a:ext cx="2610000" cy="2095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hitler4"/>
          <p:cNvPicPr/>
          <p:nvPr/>
        </p:nvPicPr>
        <p:blipFill>
          <a:blip r:embed="rId2"/>
          <a:stretch/>
        </p:blipFill>
        <p:spPr>
          <a:xfrm>
            <a:off x="6248520" y="1143000"/>
            <a:ext cx="20541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gal Segregation in Alabama, 1923-194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4" name="Picture 9" descr="SEGREGATION"/>
          <p:cNvPicPr/>
          <p:nvPr/>
        </p:nvPicPr>
        <p:blipFill>
          <a:blip r:embed="rId1"/>
          <a:srcRect l="0" t="0" r="38020" b="0"/>
          <a:stretch/>
        </p:blipFill>
        <p:spPr>
          <a:xfrm>
            <a:off x="6248520" y="955800"/>
            <a:ext cx="2438280" cy="1674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School segregation protest.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876920" y="2819520"/>
            <a:ext cx="3254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151920"/>
            <a:ext cx="822636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orphine: A Southern Lady’s Dru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76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1930s Typical Morphine Addic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ite fema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ddle-aged or ol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dow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mebou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ves in the sou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perty ow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gan using morphine for medical reasons (pain relief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508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9" name="Picture 6" descr="MrsDubose"/>
          <p:cNvPicPr/>
          <p:nvPr/>
        </p:nvPicPr>
        <p:blipFill>
          <a:blip r:embed="rId1"/>
          <a:srcRect l="9056" t="17400" r="15472" b="13000"/>
          <a:stretch/>
        </p:blipFill>
        <p:spPr>
          <a:xfrm>
            <a:off x="5486400" y="3657600"/>
            <a:ext cx="2516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05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This PowerPoint was created by Mrs. Ward especially for the 4</a:t>
            </a:r>
            <a:r>
              <a:rPr b="1" lang="en-US" sz="4800" spc="-1" strike="noStrike" baseline="30000">
                <a:solidFill>
                  <a:srgbClr val="ccecff"/>
                </a:solidFill>
                <a:latin typeface="Annie BTN"/>
              </a:rPr>
              <a:t>th</a:t>
            </a: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 Hour English I students at Warner High School.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I hope you enjoy the book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7257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12" descr="Mkgbrd"/>
          <p:cNvPicPr/>
          <p:nvPr/>
        </p:nvPicPr>
        <p:blipFill>
          <a:blip r:embed="rId1"/>
          <a:stretch/>
        </p:blipFill>
        <p:spPr>
          <a:xfrm>
            <a:off x="5410080" y="1371600"/>
            <a:ext cx="327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mbo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2133720"/>
            <a:ext cx="830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Mockingbird:  Symbolizes Everything That is Good and Harmless in This Worl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5" descr="mockingbird"/>
          <p:cNvPicPr/>
          <p:nvPr/>
        </p:nvPicPr>
        <p:blipFill>
          <a:blip r:embed="rId1"/>
          <a:stretch/>
        </p:blipFill>
        <p:spPr>
          <a:xfrm>
            <a:off x="6594480" y="304920"/>
            <a:ext cx="1347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an Louis Finch – “Scout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5" descr="badham213"/>
          <p:cNvPicPr/>
          <p:nvPr/>
        </p:nvPicPr>
        <p:blipFill>
          <a:blip r:embed="rId1"/>
          <a:stretch/>
        </p:blipFill>
        <p:spPr>
          <a:xfrm>
            <a:off x="4913280" y="1598760"/>
            <a:ext cx="3500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out’s Character Tra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5" descr="4764scout"/>
          <p:cNvPicPr/>
          <p:nvPr/>
        </p:nvPicPr>
        <p:blipFill>
          <a:blip r:embed="rId1"/>
          <a:srcRect l="5462" t="2216" r="4435" b="11315"/>
          <a:stretch/>
        </p:blipFill>
        <p:spPr>
          <a:xfrm>
            <a:off x="4876920" y="15238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ticus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Picture 5" descr="060501"/>
          <p:cNvPicPr/>
          <p:nvPr/>
        </p:nvPicPr>
        <p:blipFill>
          <a:blip r:embed="rId1"/>
          <a:stretch/>
        </p:blipFill>
        <p:spPr>
          <a:xfrm>
            <a:off x="5211720" y="175248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m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7" descr="plot1.jpg"/>
          <p:cNvPicPr/>
          <p:nvPr/>
        </p:nvPicPr>
        <p:blipFill>
          <a:blip r:embed="rId1"/>
          <a:srcRect l="2671" t="9520" r="44004" b="11908"/>
          <a:stretch/>
        </p:blipFill>
        <p:spPr>
          <a:xfrm>
            <a:off x="5486400" y="1752480"/>
            <a:ext cx="2585880" cy="4267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9"/>
          <p:cNvSpPr/>
          <p:nvPr/>
        </p:nvSpPr>
        <p:spPr>
          <a:xfrm>
            <a:off x="838080" y="1752480"/>
            <a:ext cx="44197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pur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00040" y="1598760"/>
            <a:ext cx="533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Picture 5" descr="CalandScout"/>
          <p:cNvPicPr/>
          <p:nvPr/>
        </p:nvPicPr>
        <p:blipFill>
          <a:blip r:embed="rId1"/>
          <a:srcRect l="47973" t="0" r="0" b="0"/>
          <a:stretch/>
        </p:blipFill>
        <p:spPr>
          <a:xfrm>
            <a:off x="838080" y="1219320"/>
            <a:ext cx="214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0:58:19Z</dcterms:created>
  <dc:creator>Lisa Ward</dc:creator>
  <dc:description/>
  <dc:language>en-US</dc:language>
  <cp:lastModifiedBy>RomaK</cp:lastModifiedBy>
  <dcterms:modified xsi:type="dcterms:W3CDTF">2015-09-04T10:40:07Z</dcterms:modified>
  <cp:revision>31</cp:revision>
  <dc:subject/>
  <dc:title>To Kill a Mockingbird</dc:title>
</cp:coreProperties>
</file>